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206-58B0-45E4-90B8-D6BF5872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08D-1057-4CA9-A68C-CC4CE60E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A7D-EF9A-4A39-B1AC-3C3FE629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333-3FF4-4B26-9694-061E6A30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0DCF-524F-4AB6-BD66-53B001A8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E24C-0A9E-4B40-9EEB-E8C3F6E8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3221-C591-4B5D-A84D-D44814AE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7293-4E54-450F-B50D-2E0F1069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7CA9-8E6E-4D76-A276-33331EBF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E5DE-0830-4F52-A487-193A1365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6430-08D0-4A80-BA63-3E617B6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06B-ABC7-4E46-AE99-D3B04CE3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473C-BD85-496E-956E-4BB7626D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6F56-E237-4976-A660-2D3F0C7B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39F2-2C1D-4C24-B092-0714FA0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4D4D-302D-4555-9C10-FE90029E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E98E-3337-493B-A2D3-C5A04045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D94-F4CD-474E-8CEE-B1E011F5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7AF-50AB-4ED5-A5F9-43245F1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DDF-893A-4DBD-9936-BA038989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DDE-4B5D-4E1A-BE9D-76AC93B7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5A2-867B-4E0A-BBB1-E0672776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587-F9F4-4888-BBD3-71E7F349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1C5-DD29-4CCD-AEEB-9BE09F8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B8A-6C23-4805-B6AD-D6DE14222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E7B0-9465-4FDF-8694-AF5D8BCF2E2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to Read a Recip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76520" y="30481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86200" y="3962520"/>
            <a:ext cx="156996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ookies are needed in all to make the School Bus C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1 cook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4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7-8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7-8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teps in the School Bus Cake recipe are simil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tep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Steps 2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Steps 3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Steps 1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teps 2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chool Bus Cake recipe, which step do you do after attaching the cookies for the window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Use the frosting to ad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Cut the Twinkie into a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ttach the cookies to form the whe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Eat the tasty sn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Use the frosting to add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the author probably write these pass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To teach about school buses and treasure ch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To teach you how to make tasty sn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To tell you a funny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To persuade you to buy Twin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o teach you how to make tasty sn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tchen utensil is used in both reci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p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Kn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Kn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do I read a recip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your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rec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reading a recipe 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reading a story or a re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ngredients are used in both reci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Milk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Chocolate frosting and Twin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Oreos and chocolate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Licorice and fruit ch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Chocolate frosting and Twin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teps are in the directions for each rec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1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4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5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6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4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do I read a recip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answer to our essential question on a recipe card.  Be sure to include the important parts of a reci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rts of a Recip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xplains the recipe you are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ells how many people the recipe will 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ingred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food/material needed to make the recipe; listed at the beginning of the rec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tep by step explanation of what needs to be done in the rec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 time-how long it will take 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king time- how long it needs to be ba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e recipe, how long should the Treasure Chest Cake take to prep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how many pieces should you cut the strawberry licorice for the Treasure Chest C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2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4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5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4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direction should you cut the Twinkie or cake for the Treasure Chest C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Side to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Corner to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Do not 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57600" y="11582280"/>
            <a:ext cx="156996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Side to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2:24:39Z</dcterms:created>
  <dc:creator>West Shore  School District</dc:creator>
  <dc:description/>
  <dc:language>en-US</dc:language>
  <cp:lastModifiedBy>West Shore  School District</cp:lastModifiedBy>
  <dcterms:modified xsi:type="dcterms:W3CDTF">2009-02-18T19:51:00Z</dcterms:modified>
  <cp:revision>9</cp:revision>
  <dc:subject/>
  <dc:title>How to Read a Recipe </dc:title>
</cp:coreProperties>
</file>